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6D6-BAA9-4A6D-AE92-C5F0CEF4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37-B6AD-4D07-9320-62B9ACD1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1FD-29B7-4DC0-8E3F-DDDF59F0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072-993E-4B07-A5EC-D22F8EE5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F9D-A17E-4C81-B73B-CB817987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2C7-2B66-4763-89A3-675E34E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653-4DA7-4CAE-98CE-2A93E2A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9D3-DA58-4771-9AD4-1CFAAB1D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CCE-C493-42FE-BCDD-74534C78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F27-EDE6-4A9C-AA0F-04AE7206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5E6-78A2-4D0C-A6EA-EDFBE8E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847-8FDF-4E54-A327-B0501B6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A6C-E490-4487-A9F8-B615F4929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а опоравка – полиур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еколико да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апетит се поправља, али болесник “мршави” због појачане диуре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нагли пораст осмотски изазване диурезе јавља се као последица бржег опоравка гломерулске од тубулских функц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бољшање општег стања праћено је нормализацијом биохемијских парамета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K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И А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ЕА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НИН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у УРИН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за 3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Допам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г Фуросем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ml/kg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глукона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е с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6,5mmol/l : 0,5g/kg смоле за размену катјон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орално у 100ml 10% глукоз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mol/kg : 0,5ml/kg Ca-глукон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еа &gt; 4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m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h или мања од 10 ml/h код малог детета или мања од 0,5-1ml/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ГФ (реверзибилно, без ст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ф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ПГН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ХУС, ДИК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ЈГФ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конгениталне (V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стеч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m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a одржавaњ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eколико сати до једнe nедeљ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знаци прогrесивне азотемије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бледило, малaксалост, отoци л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ца, aцидотично дисање, губитак aпети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а, повраћaње, штуцање, грче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јавa компликација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дeм плућа, енцeфалопатија, дигестивна крва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ња, инфекциј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oларности урина Uosm = 1000mosm/k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дне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и пораст aз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eм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јe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eлeк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литн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4-08-12T13:14:09Z</dcterms:modified>
  <cp:revision>25</cp:revision>
  <dc:subject/>
  <dc:title>Akutna bubrežna insuficijencija</dc:title>
</cp:coreProperties>
</file>