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409-39F2-44F1-93EE-90C8BA65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8D1-F048-4849-A1B3-117E0D10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5DD-9DBA-4855-B7A6-B7D456C0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039E-FA95-402F-B4A9-659B92054F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58B7-8D7F-436E-A8F0-590D7D1804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5FF-F5B9-4DF3-B8E1-ED56FF89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A06E-AB11-48D4-9FC6-1122D573C7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C97C-890E-436F-95DD-68C27F6F69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B06A-6D62-4798-8707-C2ACBE463C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DDA-3CD3-4A8C-973B-23B55ECAD8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C9C5-6927-4950-859B-A543A05602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157-66CA-43B4-B088-7796623945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9A0-5094-4562-8EC5-3FE6C1EB4D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E41E-9E1A-4492-8BB3-F5CD9DA374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CAD6-D32A-4215-B272-1791DA70B6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F46-C03F-4328-AC30-42783AA771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E8BF-5E5F-4C79-A065-CF80AF26C0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E2C8-C894-4ABF-BD3D-CC417CAF88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D752-1523-443D-B1E8-216D03161E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775-0132-4967-81E4-543A2C18B1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4406-1021-498A-BD96-8E3E596EAE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43D7-6753-436F-A529-EADBD3E8B4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58CA-AA2A-4EA7-80FC-149FDB5004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DADB-88FB-4CB4-88E3-A62D08313C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BC5-DA02-48F7-B0E7-F4EDC968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427-69CE-45D0-921A-BA353AE0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908-EE35-4951-95D7-5DC38D56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813-0BFF-4032-9859-F225B26D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67A-95DF-4A7A-9F9A-955BA89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A89-3659-4837-A805-757EA4D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804-AABA-4C31-B30F-22BF7D6B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2D0-9EF5-47C1-B339-65C6D7CC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4D5-C880-495B-B4AB-6900028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9CB-4D15-4AA8-82CA-48A8660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981-ABFC-4969-A75E-8ED9FA3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88D-CE73-4D9C-9F57-311ED72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4CB9-DFC8-4FA5-9EBD-FDD164D8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 је трећи кардинални знак АПСГН и евидентирана је код 50-90% деце хоспитализоване због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 пацијенти имају тешку хипертензију (200/120 mмHg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68280"/>
            <a:ext cx="8464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; аускултацијом плућа чују се инспираторо-експираторни пук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тз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лерадиографији, мада је с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–налаз  у у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 g/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дан; само 2-5% деце са АПСГН има протеинурију нефротског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стрептокок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Bris guše i kože mogu, a ne moraju biti pozitivni kod APS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употреби су бројни лабораторијски тестови који мере титар антитела на различите стрептококне антигене (ASO, AH, Anti DNAaze B) или комбинације антигена; значајно је пратитити кретање титра после 2-3 недељ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хемолитички комлп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C5 и пропердина такође о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бубрежне инсуфицијенције</a:t>
            </a:r>
            <a:r>
              <a:rPr b="1" i="1" lang="sr-C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6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е серумске концентрације креатинина и азотних материја је умерено, мада неки пацијенти могу имати тешку азот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тни профил  је обично нормалан;  хиперкалемија и метаболичка ацидоза су присутне само код пацијената са значајно смањеном функцијом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пацијената са клиничком сликом Нефротског синдрома може бити снижен укупни серумски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ага анемија (нормоцитна, нормохромна) је честа у раној фази АПСГН при чему њен степен одговара степену експанзије екстрацелуларног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ултрасонографија је обично нормална или показује благо билатерално увећање бубрега са порастом ех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диографија срца и плућа показује увећану срчану сенку и централну венску конгест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биопсија је индикована код пацијената чија је клиничка слика, лабораторијски налази и ток болести атипичан; хистолошки налаз се заснива на налазу светлосне, имунофлуоресцентне и електронске микроскоп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матрано светлосним микроскопом гломеруларне промене су генерализоване и дифузне; гломерулска петља је увећана и проширена са умерено повећаном пролиферацијом мезангијалних и епителних ћелиј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особа са најтежим обликом болести гломерули изгледају бескрвно јер едем капиларног зида омета перфузију гломер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претходног можемо закључити да постоји директна корелација између тежине хистолошких промена и клиничких манифестација болести у акутној фази АПСГ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08000" y="287100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63800" y="2852640"/>
            <a:ext cx="67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СТРЕПТОКОК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КВ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 се испоље симптоми  АПСГН лезија гломерула се већ догодила и процес  излечења је почео. То значи да је прекасно за примену специфичне терапије против узрочника нефритиса. Супротно овоме одговарајућа терапија која је потпорна и директно усмерена на превенцију комликација  може значајно утицати на морбидитет и рани мортал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ема и повишене концентрације серумског креатинина или калију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удружена са знацима централне дисфункције захтева хитну примену медикамената као што су: лабеталол</a:t>
            </a:r>
            <a:r>
              <a:rPr b="0" lang="sr-C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0,5-2mg/kg/h iv), диазоxид или нитропрусид (0,5-2mcg/kg/min iv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без енцефалопатије се лечи најчешће применом вазодилататора као што су хидралазин или нифедип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ага или умерена хипертензија не захтева хитну примену терапије која подразумева мировање, рестрикцију уноса течности и ређе примену претходно наведених лекова (фуросемид, хидралазин); ACE инхибитори могу довести до хиперкалемије и обично нису лекови  првог реда код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 и циркулаторна конгестија као последица олигурије захтевају рестрикцију уноса течности тако да се надокнађују само тзв. “невидљиви губиц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уретици примењени пер ос скраћују дужину хоспитализације едематозне деце, а код теже конгестије се дају парентерално (фуросемид 2mg/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ероидна терапија је индикована код пацијената са тешким обликом и рапидно-прогресивним G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еницилин се може применити да не би дошло до контактне инфекције са нефритогеним стрептококом мада у већини случајева ови контакти не доводе до АГН; ова терапија не утиче на ток болести, али може изменити имунолошки одго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имањем култура од најближих чланова породице могу се открити пацијенти са асимптоматским обликом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ета и физичка активн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еслана, ниско-протеинска дијета се прописује у акутној фази болести када су присутни едеми и хиперт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 унос течности и соли се препоручује код деце  која имају било олигурију или ед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а физичка активност је индикована, у раној фази болести, код пацијената са хипертензијом и/или макрохематуриј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уже мировање не утиче нити на ток болести ни на дугорочну прогнозу, па се не препоруч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султација педијатра-нефролога је неопходна када су присутни један или више од доле наведених 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зовани ед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тска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а макро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ирање ниског нивоа C3 (дуже од 8-10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ипичан почетак болести (без латентног педиода или доказа стрептоко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останак очекиване резолуције клиничких знакова АПСГН такође захтева консултацију педијатра-нефролог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крохематурије унутар првих 10-14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крохематурије у току годин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а за 2 неде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теинурије (&gt;50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mg/dl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за 6 месе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зотемије за недeљ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тeнзије за 6 нeдeл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ачни исход код особа оболелих од АПСГН зависи у великој мери од тежине иницијалног оштећења гломерул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мо код неколицине хоспитализованих пацијената је иницијално оштећење тако тешко да или перзистира бубрежна инсуфицијенција или прогредира у бубрежну инсуфицијенц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Нефротски синдром у де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је клиничко стање које карактери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асивна протеинур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опротеинем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ерлипидемиј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ед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гритис (АПСГН)  је акутно, имунолошким механизмима изазвано запаљење бубрега, које настаје, секундарно, као последица инфекције гуше или коже нефритогеним типовима β хемолитичког стрео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АПСГН)  је 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3: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и синоними за нефротски синдром у деце 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«Липоидна нефроз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ест епител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икостероид сензитиван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«Nil Disease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диопатски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nimal Changes Nephrotic Syndrome (MC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најчеши облик нефротског синдрома у деце и јавља се у узрасту 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6 месеци до 16 година, улавном до шест година. У овој популацији учесталост се креће и до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чни подаци о обољевању у нашој землји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ографска распрострањеност није јед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 наследно обољење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и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ажено да се фамилијарни случајеви јављају чешћ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 оболјевају дечаци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001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није добро разјашњена још увек, али се сматра да занчајну улогу имају поремећаји функције Т лимфоцита или/и моноцита који стварају цитокине и неке друге факторе васкуларне пермеабилности, који доводе до повећане пропустљивости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протеинурије. Заправо долази до губитка прстастих наставака епителијалних ћелија (подоцита) што резултира протеинуријом и следственом хипопротеинемиј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 Ly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Mo   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ктори васкуларне пермеабилности -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цитокини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GMB 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битак прстастих наставака подоци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63640" y="2206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Пат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је битно другачији него у нефритичном синдрому. Повећање пропуст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BM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протеине доводи до масивне протеинурије и консекутивне хипопротеинемије. Ово има за последицу снижење онкотског притиска, што доводи до преласка течности из васкуларног у интерстицијски простор, тј. до стварања едема. Због тим процесом изазване хиповолемије активира се ренин-ангиотензин-алдостерон систем, а хиповолемија и хемоконцентрација стимулишу лучење антидиуретског хормона. Удружени ефекти активације хормонског система имају за последицу ретенцију воде и натријума, који се због сниженог онкотског притиска задржавају у интерстицијуму и тако се затвара цирцулус витиосус у механизму настанка едема у нефротском синд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: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▪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 преласка течности из васкуларног у интерстицијски простор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волемије →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+ Хемоконцентра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 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: ретен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circulus vitio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Основна клиничка манифестација јесте е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У почетку болести настаје постепено тако да родитељи помисле да 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те добило у тежини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Првих дана опште стање није много поремећено тако да лекар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о не уради анализу 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може да помисли на алергиј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ојави едема углавном (не увек) претходи нека инфекција. Уколико се на време не препозна едем може постати јако изражен (анасарка, асцитес). Постоји универзална анасарка и изливи у абдоминалну дупљу, а много ређе (не зна се зашто) у плеуралну дупљ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Често имају оток лабија и скротума. Некада долази до пуцања коже и изласка едемске течности. Деца су бледа, без живости, уморна и радо сама леже у кревету. Мекане ушне шкољке и бразде на ноктима се могу запазити ако је болест дуже трај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1" i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серотипови β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ринофарингитом латентни период до појаве АПСГН изноди приближно 10 дана при чему је код више од 80% пацијената повишен титар антистрептолизина О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Олигурија је изражена у скоро свих болесника у почетку болести, па када се изгуби може се видети да су болесници потхрањени. Клиничка запажања казују да ови болесници имају повећану склоност 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тромбоемболијама, најчешће у реналним и плућним венама. Због ретенције воде и соли деца мога добити на тежини и до 20%. Болесници су склони инфекцијама (Грам позитивне и Грам негативне бактерије); лече се антибиотицима широког спектра и Пеницилин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Најзначајнији поремећај који постоји у ових болесника је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, која је у исто време и дијагностичка вредност. Протеинурија је «нефротска» ако је већа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g/kg/24h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или пак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40mg/h/m²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(у ноћном урину)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изражена јер су обично серумски протеини веома снижени, мањи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,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а један број болесника има и мању вредност од 4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Макрохематурија је изузетна, а микрохематурија може да се нађе у врло малом броју болесника с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CNS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ерлипид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један од главних знакова за нефротски синдром. Ниво укупног с. холестерола и фосфолипида је повишен. Триглицериди могу бити повишени, али не увек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. L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 у почетку болести, а з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H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су подељена мишлјења. У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седименту урин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у едемској и олигуричној фази могу се запазити бројне масне капи, овална масна тела, дегенерисане тубулске ћелије и бројни хијалини и хијалино-масни цилиндри. Јачина гломерулске филтрације у већини болесника је нормална, комплемент је у референтним вредностима.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а (троцифрен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296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теину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g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0 mg/kg/24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опротеинем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l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0 g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ерлипид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. холестерола и фосфолип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глицерид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LDL i H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менту урина: масне капи, овална масна тела, дегенерисане тубулске ћелије, бројни хијалини и хијалино-масни цилинд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цифрена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чење: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ој епизоди нефротског синдрома потребна је хоспитализација детета, не само ради постављања дијагнозе и лечења, већ и због информисања родитеља о обољењ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чење је компликовано, а терапија се може поделити на симптоматску и специфичну (кортикостероиди, имуносупреси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жељно је пре започињања било које терапије искључити секундарни нефротски синдром, као и друге облике овог синдрома до којих углавном долазимо биопсијом буб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атска терапија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фази едема треба ограничити унос течности и дати неслану храну са оптималним уносом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олико су едеми јаче изражени може се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росеми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5-3 mg/k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про дози (може се поновити два пута за 24 сата)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з- хиповолемијски ш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лучају изражених едема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умане албум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-1 g/k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инфузији која траје око 1-2 сата и на крају фуросем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ост болесника се ограничава у едемској фази (дете ће само да лег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 углавном неслана, касније се дозвољава мањи унос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болест дуго траје може се дa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t. 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јако изражене хиперлипидемије могу се дати статини (нема студија у дец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а т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рапија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кортикостеро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имуносу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 њом се започиње када се постави дијагноза нефротског синдрома, јер се зна да деца у узрасту од 2-6 година најчешће имају хистолошки минималне промен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Наведена специфична терапија се обично започиње давањем Пронизона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нисо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 и она има дв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os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²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ти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лаз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лтернати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лак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кључи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и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епе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,5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аго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ск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цид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такође лечи Пронизоно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 мањом дозом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 губитка протеинурије и још 3 дана, а затим се прелази на алтернативни начин лечења још 4 недеље, са с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њењем дозе постепено, до искључ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атистички под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Б (SPE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1428840"/>
          <a:ext cx="8286840" cy="42116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снижена гломерулска филтрациј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User</cp:lastModifiedBy>
  <dcterms:modified xsi:type="dcterms:W3CDTF">2014-08-12T12:46:58Z</dcterms:modified>
  <cp:revision>216</cp:revision>
  <dc:subject/>
  <dc:title>Slide 1</dc:title>
</cp:coreProperties>
</file>