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D7A9-97AD-45A3-AFC0-A36DA278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1395-FA12-4ECB-AE65-AFAB4BBE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D94A-8F18-4B16-AF0B-21A70BC5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632-FF49-4A82-9F95-9AEE9CD2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85B3-F178-4548-896D-272C4E72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1999-8BC4-4931-B4C5-99C0C9E7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24E6-64EB-4804-8EAF-AB0F0F68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92F2-13AD-4315-8BBE-F1DAC1CC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C9EA-0DBA-4418-89A9-58F8DF6F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4568-11A7-43CE-8DCE-7F70A97D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B082-4231-4291-8AAD-0EF00187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D878-D824-4D56-A3F7-5D22C6F4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18B7-E040-4C5D-9A5A-91EC333E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B8C1-D8C9-46C0-A676-98CE6491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11BA-71B9-4FBC-A64A-4F3A389E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237F-6AF7-49F4-8F79-980B3158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004C-755F-4D4E-8CFE-52678B09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47D7-BEF0-403D-BA85-AE95A447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FC15-BBB5-4EF9-8369-B0096114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2171-3552-4FF8-8026-0E756F60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DB7E-6882-4AA4-94DF-0B4E21FE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749F-D66A-4CBC-9112-FE0BA3B9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743E-3EE2-4366-AD50-2D62535C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12D-838A-4367-9DB4-DE272C56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5D6A-2896-4CF6-B1CB-180ADF84E36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67FE-5BE5-44BC-A838-28195E58F5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ФЕКЦИЈЕ УРИНАРНОГ ТРАКТА У ДЕЦ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27280" y="5181120"/>
            <a:ext cx="564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98989"/>
                </a:solidFill>
                <a:latin typeface="Calibri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1695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УТ се налази код око 5 % деце узраста до 2 годи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2,7-4,1%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са фебрилношћу непознате етиолог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емперату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gt;39°C),а 2-3 пута чешће код женске дец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око 17% девојчица беле рас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пацијентима м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им од 2 године са АП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8-10%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ма бактеријем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изик од појаве симптоматске ИУТ до 11. године живота постоји код 3%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девојчица са “пиком” у 4. годи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и код 1,1%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дечака са највећом инциденцом у 1. години жив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мулативни ризик од појаве ИУТ , према подацима из Шведке, износи 2,2% код дечака и 2,1% код девојчица узраста до 2 го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ични резултати добијени су у Енглеској где је симптоматска ИУТ евидентирана код 2,8% дечака и 8,3% девојчица узраста до 7 годи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ј. код 3,6% и 11,3% испитаника до 16 година стар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ко 60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%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деце са фебрилном ИУТ има АПН дефинисан присуством абнормалности у реналном кортексу на DM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ETIOLOGIJA I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већини случајева ове инфекције изазива сопствена цревна флора пацијента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Најчешћи узрочник из ове групе је E.col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ja se izoluje u случајu прве нeкомplиkovane ИУТ koд 75% novoroђenčadi i 80 - 90% deцe prepuбerтetskoг uзrast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осталим грам-негативним цревним бактеријам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bsi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се среће у новорођеначком узрасту (11%), а Proteus код млађих дечака (30%). Proteus и псеудомонас су чешћи у нозокомијалним инфекцијама и код пацијената са течким аномалијама доњег дела уринарног тракта;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еђу грам-позитивним бактеријама најчешћи су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treptococcus grupe D (ентерокок) i Staphylococcus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агулаза негативне стафилококе (S. epidermidis и S. saprophiticus) су једно време биле појам за контаминацију са коже. Са широм употребом супрапубичне аспирације урина постало је јасно да ови организми могу бити патогени за уринарни трaк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.epidermidis и S.saprophiticus узрок су ИУТ код 30% девојчица у пубертету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Ово се, као и пораст инциденце ИУТ у касном пубертету повезује са сексуалном активношћ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ФИНИЦИЈА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 појмом инфекције уринарног тракта (ИУТ) подразумевају се сва стања која карактерише присуство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сигнифакнтног броја бактерија у урину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и то без обзира на локализацију инфекције у уринарном тракту ( од асимптоматске бактериурије до акутног пијелонефритиса (АП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Нај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шћ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 пут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јим сопствена цревна флора пацијента продире у уринарни тракт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је асцедентан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ј. кроз уретру из претходно колонизоване периуретралне регије код дево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ца и субпрепуцијалног џепа код д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Код м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ке новор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ди инциденца ИУТ 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о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се смањити циркумцизијом. Ризик од ИУТ за нециркумцизирану м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ку новор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д у првој години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вота је 4,1% и м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се смањити на 0.2% применом неонаталне циркумцизије (Gonzales, 1996.). М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тим питање рутинске неонаталне циркумцизије остаје контроверзно (Poland, 1990; Schoen, 1990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Бактерије доспевају до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захваљу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способности адхеренције за уроепител, као и по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танког слоја т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ости на пов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и слузо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. Максималан раст бактерије по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на температури урина 37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, када је pH 6-7 и осмолалност 300-1200 mOsm/k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ласку бактерија се супротстављају турбулентни ток урина, природни испир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акт мокрења и 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бактеријски одбрамбени механизми урина,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и бубрег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Хематогени пут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је знатно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р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ђ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 пут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уласка бактерија у уринарни тракт. ИУТ у ново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м периоду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настати овим пут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Грам-негативна септикемија са E.coli развија се у време колонизације црева овим микроорганизмом због незрелости цревног зида и неадекватних имунол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ких одбрамбених механизама. Имуноглобулини ма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ног млека имају 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титну улогу па је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бактеријемија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шћ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а код деце која нису на природној исхра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ТОГЕНЕЗА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д мањег броја дец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У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→ резултат структуралних абнормалности-CACU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% ВУР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5%опструктивне уропат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д већине дец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У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→ резултат интерреакције изм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фактора вируленције бактерија и одбрамбених механизама домаћи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↔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нфламаторна реак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Патогенеза ИУТ није потпуно раз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њена, али је на основу бројних кли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их и микроби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их ист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вања закљ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о да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до појаве болести долази када се поремети равнот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а изм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ђ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у фактора вируленције бактерија и одбрамбених механизама дома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Генерално, уропатогене микробне културе обухватају клонове E. coli који се јављају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у уринарном тракту пацијената са ИУТ. Поред способности доброг раста и брзог ум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вања у урину, ове бактерије поседују пов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ске факторе који предиспонирају ИУТ (Roberts, 1996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Сви фактори вируленције су продукт бактеријског геном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тако да захваљу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стим мутацијама гена ове бактерије могу мењати фенотипску експресију протеинских и непротеинских антиген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о их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и ј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вирулентнији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рој бактерија који се сматра сигнификантним зависи од методе прикупљања урина и он према Кассу износи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10</a:t>
            </a:r>
            <a:r>
              <a:rPr b="0" lang="sr-Latn-CS" sz="2800" spc="-1" strike="noStrike" u="sng" baseline="30000">
                <a:solidFill>
                  <a:srgbClr val="000000"/>
                </a:solidFill>
                <a:uFillTx/>
                <a:latin typeface="Calibri"/>
              </a:rPr>
              <a:t>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или више бактерија у 1ml урина, који је добијен из средњег млаза у току мик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ли више бактерија у 1ml урина узетог катетеризацијом или било који број добијен културом урина узетог супрапубичном пункцијом мокраћне бешик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О антиген - антиген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лијског зида - састављен из липидне и полисахаридне компоненте. Липид А се ослоб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 при лизи бактерије и делу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 као ендотоксин смањује уретералну перисталтику.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Он је активатор инфламаторне реакције дом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ина и активатор комплемента класи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ним путем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Полисахаридна компонента од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је индивидуални О-серотип. Серотипови који су на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одговорни за ИУТ су: 0, 1, 2, 4, 6, 7, 18, 25, 50 и 7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К антиген - капсуларни антиген - је полисахарид који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инхибирају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и фагоцитозу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олак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ава пр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ивљавање бактерија у уринарном тракту, као и њихово продирање у бубрег,  тј настанак акутног пијелонефритиса. К антигени так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ометају бактерицидно дејство серума посредовано комплементом,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то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омог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ава перзистирање бактерија у ткив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 антиген - флагеларни антиген - поседују неки сојеви E.coli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то их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ини покретн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Фимбрије или пили су продукт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лијског зида који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омогу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ава адхеренцију бактерија на повр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ину слузоко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е -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то је најзн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ајнији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инилац у настанку бактериуриј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. Посредством адхезина-протеинских  структура на врху пила, E.coli се специф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но везује за гликолипидне или гликопротеинске рецепторе уроепите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Главна улога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у патогенези 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љавањ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паренхима бубрега изазивањем респираторног праска приписује се организмима који имају тип I фимбрија.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E.coli, носилац маноза-сензитивних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фимбриј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пријања за Tamm Horsfall-ов протеин - слузави слој на уротелу кој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ити уринарни тракт од микроорганиза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собе са крвном групом P имају на епителним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лијама мок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е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и уретера рецeпторе за P фимбрије (P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ј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TL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цептор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то омогу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ав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адхеренцију бактерија и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настанак акутног пијелонефритиса у нормaлном уринaрном трaкт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во везивање доводи, у даљем току ИУТ, до интеракције са фагоцитима - изазив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респираторни прасак тј. дегранулацију полиморфнонуклеарних леукоцита (pmn) са осло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њем ензима и токс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их радикала кисеоника у околно ткиво. Ова интеракција се одигравa посредством цитоки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ll-like рецептори“ (TLR) препознају PAMP→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емокини (IL-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оинфламаторни цитокин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IL-1, IL-6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билизација имуних ћелија и деструкција патогених организа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основи мог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микроорганизама да се испоље као патогени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бити модификована до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овим одбрамбеним механизмима. Ове механизме грубо делимо 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анатомс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функционалне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имун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 анатомски нормалном уринарном тракту, уз регуларно п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њење б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ке и слободну дре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 урина, при сваком акту мокрења долази до ефикасне елиминације урина и бактерија. На целуларном нивоу бактерије нападају Пмн-и, обл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 их антитела и лизира их комплемент. Свако стање које нар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ва ове нормалне одбрамбене механизм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ни особу в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склоном инфекцијам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Висок степе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уретерал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ог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рефл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с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ВУР)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може повећати ризик 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јелонефритис и он се среће код о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33%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деце са АП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онгениталне аномал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укључујућ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сплаз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поплаз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обстр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ц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повећавају ризик 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ВУ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јелонефрити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43120" y="1447920"/>
          <a:ext cx="7386480" cy="4653000"/>
        </p:xfrm>
        <a:graphic>
          <a:graphicData uri="http://schemas.openxmlformats.org/drawingml/2006/table">
            <a:tbl>
              <a:tblPr/>
              <a:tblGrid>
                <a:gridCol w="2462040"/>
                <a:gridCol w="2608200"/>
                <a:gridCol w="2316240"/>
              </a:tblGrid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н колекције урин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нификантан број бактер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оватноћа инфекције (%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прапубична аспир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ло који бро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териз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-5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њи мл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д нормалне деце мускулатура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се релаксира као одговор на пуњење док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а не буде пуна: 20 - 50ml код ново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ди до 500 и в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мл код одраслих. При акту мокрења спонтане контракције детрусора п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е су релаксацијом спољ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јег сфинкте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д нормалне особе остаје мање од 20ml резидуалног урина после п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њ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складу са тим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нфекција м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 да настане само ако довољно бактеријa остaне у резидуалном урин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Дисинергија сфинктер-детрусор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доводи до високог питиска п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њења и трајног пост-притиска у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ц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о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м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 изазвати бубр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но 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т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ње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ак и у одсуству инфекциј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Roberts, 1996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Сметње у функционисању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могу бити узроковане озбиљним обољењима, као у сл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ју неурогене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, или мањим функционалним поре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јима од којих су неки повезани са психосоцијалним стресом или 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м навикама (ретко мокрењ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.coli изолована из урина показује по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ну тенденцију да ин витро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адхерира за периуретралн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вагиналне, као и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елиј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букалне слузок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оних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ена које су склоне рекурентној бактериурији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Ово указује на мог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 утицај генетских фактора, при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му фактор који доприноси овој склоности м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бити присуство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 крвне групе (Shaefferet al, 1981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терлеукин (IL)-8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XCR1 по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физ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CE инсе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дел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CE I/D) г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ск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морфоз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umor necrosis factor-[al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] по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морфизам су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г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енетски фактори дом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ћи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који представљају предиспозицију за ренално ожиљавање. Они су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идентификовани као потенцијални медијатори за фиброзу ткива и последично ствара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њ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е ожиљка у току АПН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.[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жина инфламације није од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на само нивоим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L1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L-6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ећ и њиховом функционалном способношћу (од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на варијацијама у примарној структури ген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олиморфизам Taq 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+3953 C/T полиморфизам) у гену за IL1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олиморфизам -174 G/C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гену за IL 6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Деца са рекурентним ИУТ та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имају смањену уринарну секрецију IgA у по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у са здравом дец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је показано да 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е и деца са понављаним ИУТ немају антигене од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ог типа крвне групе у изл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винама као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о су слуз и салива (тзв. нон-секретори). Претпоставља се да њихово присуство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да у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на пријањање уропатоге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рганизми који узрокују узлазну ИУТ настањују црева, тако да особе са уринарном инфекцијом морају имати рецепторе у цреву за ове бактерије (Flieder et al, 1986; Uehling, 1994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екције уринарног тракта (ИУТ), после респираторних инфекција, најчешће су бактеријске инфекције у детињств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LINIČKA SLIKA I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линички симптоми уринарне инфекције зависе од узраста, пола, локализације ИУТ, присуства анатомских абнормалности и претходних инфекција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Код новорођенчади, одојчади и мале деце типични локализујући симптоми су обично одсут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јчешће клиничке манифестације ИУТ у новорођеначком узрасту подразумевају: ненапредовање (“failure to thrive”), губитак у тежини, одбијање оброка, дистензију трбуха, летаргију, узнемиреност, цијанозу, жутицу, пролив и повишену телесну температур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узрасту одојчета и малог детета до 2.године и даље је тешко локализовати ИУТ јер су симптоми некарактеристич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д уринарних симптома могу се наћи промењен изглед, боја и/или мирис урина, плач при микцији и учестало мокрењ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и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тзв. локализујући симптоми могу бити последица баланитиса (вулвовагинитиса) и локалне перинеалне иритације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то треба искључити физикалним прегледом детета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роци дизуричних тегоба код девојчица у преадолесцентном период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окална ирит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сока концентарција урина (дехидрациј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роци локалне иритациј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пуни и детерџ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емикалије у храни, пићу и леков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улвовагин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иперкалциур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о деца постају старија ИУТ се чешће испољава симптомима који се односе на уринарни тракт док су системске манифестације лакше и ређе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Дизурија, учестало мокрење, енуреза и супрапубични бол указују на акутни циститис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Тако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 се јавља акутна ретенција или инконтиненција ури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утни пијелонефритис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(АПН) се манифестује високом температуром понекад праћеном грозницом, лумбалним болом и осетљивошћу лумбалних ложа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абдоминалним болом и повраћање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ЈАГНОЗА (АП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вишена температура &gt; 38.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 уз системске поремећаје и лумбалну осетљивост као објективни зн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 &gt; 35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P &gt; 25 mg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еукоцитурија и леукоцитни цилинд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мањена осмоларност, тј. специфична тежина ур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Jodal U., 1987)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калцитонин (PCT) прецизан маркер у дијагнози акутног пијелонефритиса (Smolkin i sar., 2002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ензитивност 94,1% и специфичност  89,7%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сте већ после 2-3х од инфекције, максималан ниво достиже после 12-24h, а по одстрањењу инфективног стимулуса рапидно пада на нормал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циденција и преваленција ИУТ у детињству нису тачно познате јер она често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остаје непрепозната због неспецифичности симпт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или се погрешно дијагностикује као обољење других систе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ензитивност  100%, али екстремно ниска специфичност од само 18,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ив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T боље корелира са појавом реналних ожиљака нег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R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ортикална (статичка) сцинтиграфија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DMS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нзитивност 90%, специфичност 95%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Majd i sar., 199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ДАЉЕ ЗЛАТНИ СТАНДАРД!!!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во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L-6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L-8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у серуму и урину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орелирају 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бубрежним оштећењем код одојчади и дец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Т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са високом сензитивнош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81-88%)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 прихватљив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специфичнош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78-83%)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Ови маркер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емају исти значај у новорођеначком узрас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на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ултрасоног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ф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ма мал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с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зитивнос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50%)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у детекцији АП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ма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ф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калн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абнорма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о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ултрасоног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фији 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мби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ацији с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нивоом већим о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70 mg/L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гу указати на ренално ожиљавaњ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лаз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ower Doppler ултрасоног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фиј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су били у корелацији с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MSA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лази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код АП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нал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ултрасоног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ф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орис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дијагноз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уроли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јаз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ро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фроз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роурете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уретероцел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 дистензије беш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Стандардне биохемијске анализ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окалцитонин (PCT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до 0,5ng/m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нтерлеукин-1β (IL1β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нтерлеукин-6 (IL6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Радиолошка испитива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лтразвук уротракта (унутар 3-5 дан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CUG унутар месец да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ртикална DMSA сцинтиграфија унутар 10 дана од инфекције и после 6 месец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енетске анал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лиморфизми у генима з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L1β (TaqI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L6 (-174G/C) 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E (I/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РАПИЈА И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јважњи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циљ л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е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њ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еце са ИУТ је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да се спреч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и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прогресивно ош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т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ећње бубрег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је може довести до хипертензије, компликација у трудноћи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ерминалне ХБ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ронични пијелонефритис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рефлуксна нефропатија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остаје један од главних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узрока терминалне бубрежне инсуфицијенције у детињств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Calibri"/>
              </a:rPr>
              <a:t>Учесталост ИУТ највећа је у првој години живо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кспериментално је доказано да је настанак и обим ожиљавања бубрега сразмеран времену трајања инфекције до пошетка лечења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Почетак терапије после 3 дана од настанка инфекције не спречава стварање ожиљних промена паренх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линичка испитивања су показала да је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ризи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од настајања ожиљака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највећи у првој години живота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а да нови ожиљци ређе настају после седме годин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Приликом избора лек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и 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а његове апликације и код од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вања д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е и места (хоспитално или амбулантно) 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а треба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узети у обзир узраст детета, т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ну клини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ке слике и присуство структурних или функционалних абнормалности уринарног трак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оспитализација је неопход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ко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ворођ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ади и одојчад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≤ 3 месец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ебрил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дој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ад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≥ 3 месец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 ма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ц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годин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арије 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це с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линичк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ом слик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АП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 и/или клинички компликованом ИУ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деце са аномалијама уринарног трак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пликована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соко фебрилно(рецт.Т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≥3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C) i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клинички болесно (интоксициран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ерзистентно повра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умерено до тешко дехидрир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редвиђа се лоша сарадња у лечењ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екомпликована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фебрилно(рецт.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≥3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C)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али не изгледа болес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може да узима течност и лековe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per 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нормално хидрирано или благо дехидрир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редвиђа се добра сарадњ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ерапију је најбоље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зап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ти одмах посл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физикалног прегледа болесника и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узимања узорка урина за бактериол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ки преглед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Код т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 болесне деце укљ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ново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д н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ка се да дете мокри 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се узорак урина узима супрапуб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ом аспирацијом под контролом ултразву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деце која нису фебрилна, а имају симтоме и знаке инфекције доњег дела уротракта, терапија се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одгодити до добијања резултата бактери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г прегледа урина, не д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од 48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п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е мере у терапији обухватају с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е пов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е телесне температуре, оралну или парентералну рехидрацију, 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ка (крв, плазма, слани физи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и раствори), 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е фебрилних конвулзија и других поре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ј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терапији АПН-а разликују се две фаз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. иницијална, до идентификације уз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ика и антибиогр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. друга фаза, по добијању из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аја о сензитивности уз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ика на антимикробне леко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новорођеначком периоду ИУТ су од 2,3 - 8 пута чешће код мушке дец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узрасту од 2 до 6 месеци такође постоји предоминација мушког пола, док су у сваком каснијем периоду ИУТ чешће код женске дец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е се проводи парентералном применом лекова у трајању 3-5 дана, а затим, у зависности од стања болесника, наставља пероралном применом изабраног лека. На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се терапија примењује 7-1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д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Неки аутори се зал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 за истовремену примену 2 лека, бар у узрасту до 18 месеци. Иницијална “битерапија” се об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но састоји од аминогликозида (по правилу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Гентамицин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) и једног од сле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х лекова: Ампицилин-а, Амоксицилин-а (са или без клавулонске киселине), цефалоспорина и триметоприм-сулфометоксазола (TMP/SMX) (Bensman, 1991.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 моделу експериментално изазваног АПН код пацова, показано је (путем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MSA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патохистолошки) да примена кетопофена или метилпреднизолона уз антбиотску терапију (цефтриаxон) смањује појаву ожиљака (Турс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кође је, клиничком студијом код деце са АПН (путем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MSA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ла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врђено да се увођењем вит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и вит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 у терапију превенира бубрежно ожиљавање (Ира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 скоро одобрила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примену ципрофлоксацина за лечење комликоване ИТУ и пијелонефритиса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код деце, мада он није лек првог избора у педијатрији због утицаја на коштано-зглобни систем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арентерална терапија ИТУ код де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66800" y="1219320"/>
          <a:ext cx="7386480" cy="514980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ов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ицилин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тамиц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ициллин: 100-200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(макс.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тамицин: 5-7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kg/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 једној дози или 7,5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подељено у 3 до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еп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14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a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60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дојчад/дец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100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2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з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олесценти: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2g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отаx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28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a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100-150mg/kg/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дојчад/деца: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-200mg/kg/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олесценти: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2g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6-8h (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12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триакс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дојчад/дец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50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2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з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олесцент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1-2g za 24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профлокасц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год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:10-20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/na 12h/ (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1,5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олесцeнт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200-400m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з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a 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ицијална монотерапија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се спроводити сваким од напред наведених леко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УТ ново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та се 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по принципима за терапију сепс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За оралну терапију су погодни цефалоспорини,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моксицилин/клавулонска киселина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котримоксазол,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нитрофурантоин, налидиксинска и пипемидинска кисел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Бактери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и и рутински преглед урина в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се 48-72 h од п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тка терапије, затим 2-3 дана по њеном прекиду и поново 2-3 недељe касниј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апију треба избегавати код деце без симптома, јер је ерадикација узрочника асимптоматске батериурије који су ниске вириуленције, често праћена појавом симптомске инфекције или АПН са много вирулентнијим сојевима бактер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У овом најранијем животном добу ИУТ се најчешће клинички манифестују у виду акутног пијелонефритиса (АПН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После из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а АПН-а треба да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антибактеријску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профилаксу све док се испитивањима не искљ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ВУР или опструктивна уропат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Jones &amp; Asscher, 1992.)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т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и млађој од 2 године после прве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и млађој од 5 година после прве компликoване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тале индикације за профилакс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рецидивима АПН                               (до 6 месеци од последње епизод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реналним ожиљком после ИУТ која немају В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ВУР-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деца са рекурентном ИУТ по типу циститиса (више од 3/год)   4-6 месе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асимптоматском бактериуријом која је удружена са поремећајем актa мокрења (дисфункционално мокренј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Профилак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е дозе лекова не треба да п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30% терапијских доза, а дају се у једној 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рњој дози. За профилаксу се користе: нитрофурантоин, TMP/SMX, налидиксинска и пипемидинска кисели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ампицилин, амоxицилин и ц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л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ФИЛАКТИЧНЕ ДОЗЕ ЛЕКОВА ИТУ КОД ДЕ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14520" y="1447920"/>
          <a:ext cx="7386480" cy="512100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ОВ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P-SM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g /kg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 или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g/kg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x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ељно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TM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фуранто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mg/kg 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 /д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ицил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mg/kg/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 /д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ксицил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mg/kg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дози /д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але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mg/kg 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 /д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и која имају честе инфекције под профилаксом може да користи “двострука” профилакса са котримоксазолом и нитрофурантои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компликованим аномалијама уротракта којима су потребне интермитентне катетеризације, често имају и асимптоматску бактериурију и симптоматску И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ва деца треба да се лече у терцијарним установама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Диференцијална дијагноз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пендиц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актерием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wasacki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јева боле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олитиј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токол испитривања после прве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133720" y="1143000"/>
            <a:ext cx="31240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ва доказана И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З прегл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tg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(сумња на калкулоз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152280" y="3048120"/>
            <a:ext cx="1981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&lt; 2 годи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12920" y="2438280"/>
            <a:ext cx="2133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ормалан нал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7010280" y="2438280"/>
            <a:ext cx="1905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нормал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AutoShape 10"/>
          <p:cNvCxnSpPr>
            <a:stCxn id="278" idx="2"/>
            <a:endCxn id="281" idx="0"/>
          </p:cNvCxnSpPr>
          <p:nvPr/>
        </p:nvCxnSpPr>
        <p:spPr>
          <a:xfrm flipH="1" rot="16200000">
            <a:off x="5676120" y="152280"/>
            <a:ext cx="305280" cy="426780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" name="AutoShape 11"/>
          <p:cNvCxnSpPr>
            <a:stCxn id="278" idx="2"/>
            <a:endCxn id="280" idx="0"/>
          </p:cNvCxnSpPr>
          <p:nvPr/>
        </p:nvCxnSpPr>
        <p:spPr>
          <a:xfrm rot="5400000">
            <a:off x="3334680" y="2077920"/>
            <a:ext cx="305280" cy="416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4" name="Rectangle 17"/>
          <p:cNvSpPr/>
          <p:nvPr/>
        </p:nvSpPr>
        <p:spPr>
          <a:xfrm>
            <a:off x="2286000" y="304812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2 - 5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8"/>
          <p:cNvSpPr/>
          <p:nvPr/>
        </p:nvSpPr>
        <p:spPr>
          <a:xfrm>
            <a:off x="4437000" y="3048120"/>
            <a:ext cx="19083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&gt; 5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9"/>
          <p:cNvSpPr/>
          <p:nvPr/>
        </p:nvSpPr>
        <p:spPr>
          <a:xfrm>
            <a:off x="6894360" y="3048120"/>
            <a:ext cx="21337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CUG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(м),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n CG (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цинтиг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руга испитив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AutoShape 20"/>
          <p:cNvCxnSpPr>
            <a:stCxn id="281" idx="2"/>
            <a:endCxn id="286" idx="0"/>
          </p:cNvCxnSpPr>
          <p:nvPr/>
        </p:nvCxnSpPr>
        <p:spPr>
          <a:xfrm flipH="1">
            <a:off x="7961040" y="2742840"/>
            <a:ext cx="21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8" name="Rectangle 21"/>
          <p:cNvSpPr/>
          <p:nvPr/>
        </p:nvSpPr>
        <p:spPr>
          <a:xfrm>
            <a:off x="160200" y="4149720"/>
            <a:ext cx="1981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C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2276640" y="414972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цинтиг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3"/>
          <p:cNvSpPr/>
          <p:nvPr/>
        </p:nvSpPr>
        <p:spPr>
          <a:xfrm>
            <a:off x="4437000" y="4149720"/>
            <a:ext cx="18907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цинтиг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Р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AutoShape 24"/>
          <p:cNvCxnSpPr>
            <a:stCxn id="280" idx="2"/>
            <a:endCxn id="284" idx="0"/>
          </p:cNvCxnSpPr>
          <p:nvPr/>
        </p:nvCxnSpPr>
        <p:spPr>
          <a:xfrm flipH="1">
            <a:off x="3276360" y="2742840"/>
            <a:ext cx="36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2" name="AutoShape 25"/>
          <p:cNvCxnSpPr>
            <a:stCxn id="280" idx="2"/>
            <a:endCxn id="279" idx="0"/>
          </p:cNvCxnSpPr>
          <p:nvPr/>
        </p:nvCxnSpPr>
        <p:spPr>
          <a:xfrm rot="5400000">
            <a:off x="2058120" y="1827360"/>
            <a:ext cx="305640" cy="2136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" name="AutoShape 26"/>
          <p:cNvCxnSpPr>
            <a:stCxn id="280" idx="2"/>
            <a:endCxn id="285" idx="0"/>
          </p:cNvCxnSpPr>
          <p:nvPr/>
        </p:nvCxnSpPr>
        <p:spPr>
          <a:xfrm flipH="1" rot="16200000">
            <a:off x="4181760" y="1839600"/>
            <a:ext cx="305640" cy="211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94" name="Rectangle 27"/>
          <p:cNvSpPr/>
          <p:nvPr/>
        </p:nvSpPr>
        <p:spPr>
          <a:xfrm>
            <a:off x="162000" y="5273640"/>
            <a:ext cx="1981080" cy="130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цинтиг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8"/>
          <p:cNvSpPr/>
          <p:nvPr/>
        </p:nvSpPr>
        <p:spPr>
          <a:xfrm>
            <a:off x="2276640" y="5273640"/>
            <a:ext cx="1981080" cy="130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MCUG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: ненормално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мушки пол,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APN,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УР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жиљна нефропатиј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 породиц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исфункционал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мокрењ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9"/>
          <p:cNvSpPr/>
          <p:nvPr/>
        </p:nvSpPr>
        <p:spPr>
          <a:xfrm>
            <a:off x="4392720" y="5273640"/>
            <a:ext cx="1981080" cy="130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MCUG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: ненормал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цинтиграм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исфункционал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мокрењ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AutoShape 30"/>
          <p:cNvCxnSpPr>
            <a:stCxn id="279" idx="2"/>
            <a:endCxn id="288" idx="0"/>
          </p:cNvCxnSpPr>
          <p:nvPr/>
        </p:nvCxnSpPr>
        <p:spPr>
          <a:xfrm>
            <a:off x="1143000" y="3962520"/>
            <a:ext cx="864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8" name="AutoShape 31"/>
          <p:cNvCxnSpPr>
            <a:stCxn id="288" idx="2"/>
            <a:endCxn id="294" idx="0"/>
          </p:cNvCxnSpPr>
          <p:nvPr/>
        </p:nvCxnSpPr>
        <p:spPr>
          <a:xfrm>
            <a:off x="1150920" y="5064120"/>
            <a:ext cx="216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AutoShape 32"/>
          <p:cNvCxnSpPr>
            <a:stCxn id="284" idx="2"/>
            <a:endCxn id="289" idx="0"/>
          </p:cNvCxnSpPr>
          <p:nvPr/>
        </p:nvCxnSpPr>
        <p:spPr>
          <a:xfrm flipH="1">
            <a:off x="3266280" y="3962520"/>
            <a:ext cx="1044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0" name="AutoShape 33"/>
          <p:cNvCxnSpPr>
            <a:stCxn id="289" idx="2"/>
            <a:endCxn id="295" idx="0"/>
          </p:cNvCxnSpPr>
          <p:nvPr/>
        </p:nvCxnSpPr>
        <p:spPr>
          <a:xfrm>
            <a:off x="3266640" y="5064120"/>
            <a:ext cx="108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" name="AutoShape 34"/>
          <p:cNvCxnSpPr>
            <a:stCxn id="285" idx="2"/>
            <a:endCxn id="290" idx="0"/>
          </p:cNvCxnSpPr>
          <p:nvPr/>
        </p:nvCxnSpPr>
        <p:spPr>
          <a:xfrm flipH="1">
            <a:off x="5382720" y="3962520"/>
            <a:ext cx="864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" name="AutoShape 35"/>
          <p:cNvCxnSpPr>
            <a:stCxn id="290" idx="2"/>
            <a:endCxn id="296" idx="0"/>
          </p:cNvCxnSpPr>
          <p:nvPr/>
        </p:nvCxnSpPr>
        <p:spPr>
          <a:xfrm>
            <a:off x="5382720" y="5064120"/>
            <a:ext cx="108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09:26:33Z</dcterms:created>
  <dc:creator>Ana i Tamara</dc:creator>
  <dc:description/>
  <dc:language>en-US</dc:language>
  <cp:lastModifiedBy>User</cp:lastModifiedBy>
  <dcterms:modified xsi:type="dcterms:W3CDTF">2014-08-12T13:37:25Z</dcterms:modified>
  <cp:revision>25</cp:revision>
  <dc:subject/>
  <dc:title>Slide 1</dc:title>
</cp:coreProperties>
</file>